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30C-EA99-4A9D-A302-B842D250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C43-1396-429B-8F38-F90197A9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B24-DE47-4986-97B2-69971D48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A17-B7E4-40B6-81B7-75A7F0E1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69C-796E-49E0-BB76-CCD3F0B8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7C4-D29A-4DE6-8970-FA9021DF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664-3022-4311-A9DE-878492F9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87C-E363-4936-995B-359E84A6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53E-E92F-4FFD-9FF7-6BBE8A6B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CFB-C01C-4212-B41A-EAA29F0E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74B0-97D7-411F-AC90-8B2D9AC5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771-C35E-4869-8F26-62CBBDD6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BD0D-F380-4AD6-9B3D-7C1131446D0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361040"/>
            <a:ext cx="7093080" cy="24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رب إستعملني لسلام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4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رب، إستعملني لسلامِك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97964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فأضع الحبّ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حيثُ البُغض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والـمغفرة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حيثُ الإساءَة، 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7944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الاتفاقَ حيثُ الخلاف، والحقيقةَ حيثُ الضلال،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48000" y="247680"/>
            <a:ext cx="673236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لإيمانَ حيثُ الشكّ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َ حيثُ اليأس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9880" y="182736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نورَ حيثُ الظلمة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فرحَ حيثُ الكآبة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ستعملني لسلامك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3:46Z</dcterms:created>
  <dc:creator>Charbel Azar</dc:creator>
  <dc:description/>
  <dc:language>en-US</dc:language>
  <cp:lastModifiedBy>ف</cp:lastModifiedBy>
  <dcterms:modified xsi:type="dcterms:W3CDTF">2006-04-01T18:17:07Z</dcterms:modified>
  <cp:revision>6</cp:revision>
  <dc:subject/>
  <dc:title>PowerPoint Presentation</dc:title>
</cp:coreProperties>
</file>